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png" ContentType="image/png"/>
  <Override PartName="/ppt/media/image11.wmf" ContentType="image/x-wmf"/>
  <Override PartName="/ppt/media/image3.png" ContentType="image/png"/>
  <Override PartName="/ppt/media/image17.jpeg" ContentType="image/jpeg"/>
  <Override PartName="/ppt/media/image7.png" ContentType="image/png"/>
  <Override PartName="/ppt/media/image15.wmf" ContentType="image/x-wmf"/>
  <Override PartName="/ppt/media/image8.png" ContentType="image/png"/>
  <Override PartName="/ppt/media/image14.jpeg" ContentType="image/jpeg"/>
  <Override PartName="/ppt/media/image5.jpeg" ContentType="image/jpeg"/>
  <Override PartName="/ppt/media/image13.jpeg" ContentType="image/jpeg"/>
  <Override PartName="/ppt/media/image22.png" ContentType="image/png"/>
  <Override PartName="/ppt/media/image21.wmf" ContentType="image/x-wmf"/>
  <Override PartName="/ppt/media/image19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2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23.wmf" ContentType="image/x-wmf"/>
  <Override PartName="/ppt/media/image9.jpeg" ContentType="image/jpe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B639-2A83-4E96-B18C-71BAC97C4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C987-8113-41AC-B542-19304C4F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EF9D-03D5-4156-9794-5629ED705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9AD6-90E9-494F-B64F-3142860FF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49AB-2CA5-4DDE-BCC1-010433576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65C84-85AC-4BB6-AA5B-9CD19505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2A256-3194-47ED-B6FD-1AAD8750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BA1EA-03EB-41D3-9F2A-C7A289DD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BF7F-4D93-4FFE-8A34-458156EF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D240-4D0C-4F9E-A251-F4E8F37C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F5502-198A-4B1B-B097-8ED0382D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3995-778A-4DC7-A22E-21C8F26C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ADCC-4A2D-448B-AABA-B742987F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5C68-992F-4ABC-B587-AF26CC8A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38DA-A1D8-4C84-8BF9-05D73DE4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D63A-24B0-443A-8F1D-8F68E0BF6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EECA-140E-4455-9C0F-68779386F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73884-0AEA-4168-9CEF-24A2E2D76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11B0D-E408-43D0-9779-9FFB47D0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6FD6A-660B-4FF7-A527-51ECEEB6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7D8F9-4167-48B5-B70C-E64CAE3E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127FC-95F2-4852-B896-6978656D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8C73-9048-4C3A-B39D-CB962736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D560D-B987-4FB8-B547-5973D8A5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DE7AF-F1DF-4C94-9B4F-B52DD196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CCCD1-D973-41EE-9C1E-30F6FF90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FF351-CD3E-4B77-A283-FEBCC176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AE66F-F5CB-49A7-A22D-76AB3DD5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24F9B-7090-459A-993B-F08BD3390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957CD-C139-41F5-9C97-335484202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7E011-C547-4670-A34B-7F756B35C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778EF-698D-47B8-8363-F25843A0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C6599-B493-4E34-B884-A98203A5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E70C-2E30-42CB-8F0A-64A1AC2C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42D57-6ACB-4BAD-BC12-B64FC71D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B0ACB-AB1E-4E5C-A243-9D3500A4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6142A-9F5F-4456-934D-792D93D5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A589F-2A73-4D5A-BD5D-48EBAE97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91318-7C3D-4C13-962F-D3A20038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05DCD-AB94-4607-8F1F-4B84BE6A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862FC-D95B-4560-8A27-B96B3A62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48726-EC6D-4477-AB84-A4B193138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95588-64CB-4398-AA26-54A79B7B6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B7EA0-9A52-4458-95E4-35E82B229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0658-CE5F-4138-80F7-ED6083A2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0EBB9-38CD-462E-BEF6-A66379BE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A22B8-080B-46F9-B357-03BB1BB9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44E8B-EC74-455E-94A1-F95102FD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C419F-98B7-475A-8384-AC9DA6FD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A88D5-0676-49A3-9E6E-DB465868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6C227-2EC6-4904-8B46-60FAE6A5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5400A-06F1-4F49-BA7E-7BD21170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3B9F2-9FA6-43AE-88D3-0D3D69D6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868C9-372C-4805-A0FE-410C9124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79288-CFC0-44F6-B1B1-1703605B0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92FD-88BD-4076-8447-1A4551FD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7073C-39E0-46FA-80FC-D64CB5F59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D7212-817B-41B1-8EFC-3186F8438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F6521-87AD-4C7D-A909-835B089E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BF518-79D4-40C1-BCDB-DE666E7E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1AD71-F891-4E07-9EFF-3B48192B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B4B22-115E-4AAC-8F88-12307368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6FF4B-F879-458F-84A0-A91AB328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A43E6-F3C7-4EC9-B52C-62723E65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78FDA-AA19-4CFE-8F26-FD120425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9B46F-CA4C-41B3-A318-81AD975C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5043-1753-4A06-8612-2879C065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9CD0F-99E0-4D16-9EAC-1754225C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D90DE-2B84-4120-BBDA-B86F574E6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690FB-E5B9-485B-970F-43F8CDF29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B69AC-3304-497C-B41C-13372C4AB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95650-5535-42AA-8751-4B82026A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C9A27-B41B-462D-8154-4492EC08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2A50B-18A1-4772-80FC-B4323BFA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74340-6C36-4004-86FA-7E501488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74C35-A93A-43F8-A8E3-CFEC5C02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F01A9-211F-4DBA-B92A-D7975351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53A4-A120-425C-8430-7FD01F41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01049-B648-45A2-9D53-6003D4CA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9AF78-F262-4DA4-8F4A-A2786136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9CFAF-D04B-4C40-8BEF-FC0673E7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E1D67-402F-4374-8C9D-F046754DE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F09D3-321A-4961-8890-6806DDBBF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50BE5-736C-499A-BCD3-6053F3972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0066A-CC63-4B3C-918D-91698AD2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B38ED-917D-4B68-9258-003541A4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456AD-970F-4292-8F1A-619A7540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D738D-FECC-42E3-97A6-88932888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1BB0-E4CC-43C0-AF2A-80A89F6D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A42B6-D9B7-41C4-BA21-E9FD0066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019BE-0DED-4F43-BF0B-2F33C4A3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391E8-1A87-4027-8C24-FD59A8A0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718C8-96F1-42B6-84BB-70479CE3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F057F-8578-4F80-9ACE-50A480DB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07BBB-9B79-42CD-A7EB-FFF7D990D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DA491-CEC7-4D89-9A99-5F465D1AF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7A77-D2FB-496C-92DD-0B5E04CF18D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0FD8-C4B0-4A2D-BE3F-1CA577C8A78B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0909-FAB8-4A8D-9B8F-5F959C58C50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DA4F-9DD6-4B8E-9FA2-5B754FA75C9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495E-1BE0-42B7-A175-C160C2788FF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B552-3D17-40B5-A631-EF526EC6EF5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B271-AEF9-4D56-B982-CCDDBF6F9CA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EC48-3102-4949-B121-2A7F1DAC0C8A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pic>
        <p:nvPicPr>
          <p:cNvPr id="371" name="Diagram 3" descr=""/>
          <p:cNvPicPr/>
          <p:nvPr/>
        </p:nvPicPr>
        <p:blipFill>
          <a:blip r:embed="rId2"/>
          <a:stretch/>
        </p:blipFill>
        <p:spPr>
          <a:xfrm>
            <a:off x="1365120" y="3859200"/>
            <a:ext cx="6413760" cy="18162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C:\Documents and Settings\STAFF\Local Settings\Temporary Internet Files\Content.IE5\MFPCUCYL\MPj04371780000[1].jpg"/>
          <p:cNvPicPr/>
          <p:nvPr/>
        </p:nvPicPr>
        <p:blipFill>
          <a:blip r:embed="rId3"/>
          <a:stretch/>
        </p:blipFill>
        <p:spPr>
          <a:xfrm>
            <a:off x="914400" y="380880"/>
            <a:ext cx="16304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Je vais tres bien, merci, et vou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Picture 2" descr="C:\Documents and Settings\STAFF\Local Settings\Temporary Internet Files\Content.IE5\6U426MMQ\MCj04419020000[1].wmf"/>
          <p:cNvPicPr/>
          <p:nvPr/>
        </p:nvPicPr>
        <p:blipFill>
          <a:blip r:embed="rId2"/>
          <a:stretch/>
        </p:blipFill>
        <p:spPr>
          <a:xfrm>
            <a:off x="1371600" y="533520"/>
            <a:ext cx="1676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3440" cy="184140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Il est loin d’ici?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Picture 2" descr="C:\Documents and Settings\STAFF\Local Settings\Temporary Internet Files\Content.IE5\CXTSM2V1\MPj04364890000[1].jpg"/>
          <p:cNvPicPr/>
          <p:nvPr/>
        </p:nvPicPr>
        <p:blipFill>
          <a:blip r:embed="rId2"/>
          <a:stretch/>
        </p:blipFill>
        <p:spPr>
          <a:xfrm>
            <a:off x="533520" y="3352680"/>
            <a:ext cx="2209680" cy="16290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" descr="C:\Documents and Settings\STAFF\Local Settings\Temporary Internet Files\Content.IE5\CXTSM2V1\MPj04364890000[1].jpg"/>
          <p:cNvPicPr/>
          <p:nvPr/>
        </p:nvPicPr>
        <p:blipFill>
          <a:blip r:embed="rId3"/>
          <a:stretch/>
        </p:blipFill>
        <p:spPr>
          <a:xfrm>
            <a:off x="609480" y="533520"/>
            <a:ext cx="1371600" cy="10112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C:\Documents and Settings\STAFF\Local Settings\Temporary Internet Files\Content.IE5\NZBI3JR5\MCj03790730000[1].wmf"/>
          <p:cNvPicPr/>
          <p:nvPr/>
        </p:nvPicPr>
        <p:blipFill>
          <a:blip r:embed="rId4"/>
          <a:stretch/>
        </p:blipFill>
        <p:spPr>
          <a:xfrm>
            <a:off x="3733920" y="457200"/>
            <a:ext cx="112212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407880" y="1749600"/>
            <a:ext cx="8729640" cy="184140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Vous allez tout droit, tournez a gauche a la cathedrale, et voila devant vous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Picture 2" descr="C:\Documents and Settings\STAFF\Local Settings\Temporary Internet Files\Content.IE5\MFPCUCYL\MPj04285050000[1].jpg"/>
          <p:cNvPicPr/>
          <p:nvPr/>
        </p:nvPicPr>
        <p:blipFill>
          <a:blip r:embed="rId2"/>
          <a:stretch/>
        </p:blipFill>
        <p:spPr>
          <a:xfrm>
            <a:off x="0" y="228600"/>
            <a:ext cx="3581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365040" y="1749600"/>
            <a:ext cx="8102520" cy="18414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c767c"/>
                </a:solidFill>
                <a:latin typeface="Lucida Sans Unicode"/>
              </a:rPr>
              <a:t>Mais, non, il n’est pas cher et tres joli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Picture 3" descr="C:\Documents and Settings\STAFF\Local Settings\Temporary Internet Files\Content.IE5\MFPCUCYL\MPj04365950000[1].jpg"/>
          <p:cNvPicPr/>
          <p:nvPr/>
        </p:nvPicPr>
        <p:blipFill>
          <a:blip r:embed="rId2"/>
          <a:stretch/>
        </p:blipFill>
        <p:spPr>
          <a:xfrm>
            <a:off x="3276720" y="304920"/>
            <a:ext cx="251460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365040" y="1749600"/>
            <a:ext cx="8102520" cy="18414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358128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Il est beau, non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Picture 2" descr="C:\Program Files\Microsoft Office\MEDIA\CAGCAT10\j0157763.wmf"/>
          <p:cNvPicPr/>
          <p:nvPr/>
        </p:nvPicPr>
        <p:blipFill>
          <a:blip r:embed="rId2"/>
          <a:stretch/>
        </p:blipFill>
        <p:spPr>
          <a:xfrm>
            <a:off x="6705720" y="304920"/>
            <a:ext cx="179532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461440" cy="184140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Je cherche aussi un bon petit café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2"/>
          <a:stretch/>
        </p:blipFill>
        <p:spPr>
          <a:xfrm>
            <a:off x="1447920" y="304920"/>
            <a:ext cx="31716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401760" y="1384200"/>
            <a:ext cx="8065800" cy="221292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685800" y="358128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C’est un bon caf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Picture 7" descr="C:\Documents and Settings\STAFF\Local Settings\Temporary Internet Files\Content.IE5\6U426MMQ\MPj04328620000[1].jpg"/>
          <p:cNvPicPr/>
          <p:nvPr/>
        </p:nvPicPr>
        <p:blipFill>
          <a:blip r:embed="rId2"/>
          <a:stretch/>
        </p:blipFill>
        <p:spPr>
          <a:xfrm>
            <a:off x="6172200" y="3048120"/>
            <a:ext cx="255276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4T20:43:36Z</dcterms:created>
  <dc:creator> </dc:creator>
  <dc:description/>
  <dc:language>en-US</dc:language>
  <cp:lastModifiedBy> </cp:lastModifiedBy>
  <dcterms:modified xsi:type="dcterms:W3CDTF">2009-07-16T17:36:49Z</dcterms:modified>
  <cp:revision>7</cp:revision>
  <dc:subject/>
  <dc:title>Bonjour</dc:title>
</cp:coreProperties>
</file>